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62847"/>
        <c:axId val="91749918"/>
      </c:barChart>
      <c:catAx>
        <c:axId val="55462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49918"/>
        <c:crosses val="autoZero"/>
        <c:auto val="1"/>
        <c:lblAlgn val="ctr"/>
        <c:lblOffset val="100"/>
        <c:noMultiLvlLbl val="0"/>
      </c:catAx>
      <c:valAx>
        <c:axId val="91749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62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B7D-5E49-4099-9C86-E0C56F7F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775-5BB2-4065-AF77-B8B3E0E7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B0F-D3FA-46E7-A223-29366BA8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624-A022-4867-A19B-80B797AD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2AB-A779-4841-917E-640FAF3B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A1B-EEFD-47C4-BFF7-AAE3F72D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A1D-1952-425E-BB31-D7A84369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0BB-53C0-4E8B-8D4E-7DCBE0FE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7C2-D2B4-43EE-BD8A-4D706D14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CD3-BA48-412A-BEA1-027D01E5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42C-CB2E-4171-91FA-099CC1B6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D22-0967-4432-A3C0-772FEED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46D3A-834C-4302-A0F4-70DE13F592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